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803-7CDB-43DA-9693-59C8ED22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D0D-349E-4C20-999D-C55711F3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9DD-3695-4300-BCB4-C6EFAADD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7AF-3A8F-4312-9712-94D47A7D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589-FF47-4696-837C-FFCE9EC9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C36-146E-48F0-8A63-6A610C28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378-74E1-4F03-A88F-53F3BDE7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9EA-0D23-4F49-9773-7DAAF597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D1D-CAAC-483D-8545-82F2A358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A7B-8C03-4FA0-9747-5C60B8EC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B5C-E764-4E7F-91C2-8394F94C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9D5-582A-44B7-BDFE-21792AFE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A8C4-B4C6-4768-92F4-EACDA13F8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ocabulary </a:t>
            </a:r>
            <a:br>
              <a:rPr sz="8800"/>
            </a:br>
            <a:r>
              <a:rPr b="0" lang="en-US" sz="8800" spc="-1" strike="noStrike" u="sng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648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: Dylan Sai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air resistance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force of air pushing against a moving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air resistance can cause a change in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air resista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gra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force of attraction between all objects with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Gravity pulls things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gra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3"/>
          <p:cNvSpPr/>
          <p:nvPr/>
        </p:nvSpPr>
        <p:spPr>
          <a:xfrm>
            <a:off x="477720" y="4834080"/>
            <a:ext cx="3657600" cy="3618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4"/>
          <p:cNvSpPr/>
          <p:nvPr/>
        </p:nvSpPr>
        <p:spPr>
          <a:xfrm>
            <a:off x="976320" y="5460840"/>
            <a:ext cx="1351080" cy="2746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5"/>
          <p:cNvSpPr/>
          <p:nvPr/>
        </p:nvSpPr>
        <p:spPr>
          <a:xfrm>
            <a:off x="1620720" y="5049720"/>
            <a:ext cx="1122480" cy="13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6"/>
          <p:cNvSpPr/>
          <p:nvPr/>
        </p:nvSpPr>
        <p:spPr>
          <a:xfrm>
            <a:off x="1828800" y="2819520"/>
            <a:ext cx="1371600" cy="1523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Elbow Connector 27"/>
          <p:cNvCxnSpPr/>
          <p:nvPr/>
        </p:nvCxnSpPr>
        <p:spPr>
          <a:xfrm rot="5400000">
            <a:off x="1789920" y="2323800"/>
            <a:ext cx="68652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Elbow Connector 28"/>
          <p:cNvCxnSpPr/>
          <p:nvPr/>
        </p:nvCxnSpPr>
        <p:spPr>
          <a:xfrm rot="5400000">
            <a:off x="2437560" y="2590560"/>
            <a:ext cx="457920" cy="3960"/>
          </a:xfrm>
          <a:prstGeom prst="bentConnector3">
            <a:avLst>
              <a:gd name="adj1" fmla="val 4996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Elbow Connector 29"/>
          <p:cNvCxnSpPr/>
          <p:nvPr/>
        </p:nvCxnSpPr>
        <p:spPr>
          <a:xfrm rot="5400000">
            <a:off x="2170800" y="2552400"/>
            <a:ext cx="534240" cy="3960"/>
          </a:xfrm>
          <a:prstGeom prst="bentConnector3">
            <a:avLst>
              <a:gd name="adj1" fmla="val 4996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Elbow Connector 30"/>
          <p:cNvCxnSpPr/>
          <p:nvPr/>
        </p:nvCxnSpPr>
        <p:spPr>
          <a:xfrm rot="5400000">
            <a:off x="1485360" y="2781360"/>
            <a:ext cx="68652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X and y axi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x axis is the horizontal number line on a coordinate plane; the y axis is the veridical number line on the coordinat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62120" y="5135400"/>
            <a:ext cx="7467480" cy="1922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 The X and Y axis help determine what line are on the c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X axis and 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6"/>
          <p:cNvSpPr/>
          <p:nvPr/>
        </p:nvSpPr>
        <p:spPr>
          <a:xfrm flipH="1">
            <a:off x="1293480" y="2440080"/>
            <a:ext cx="3240" cy="2590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1295280" y="5029200"/>
            <a:ext cx="2590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ce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study of earth and the natural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in Science class we learn new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the study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78204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tific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 a possible explanation for repeatedly obser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in class we come up with scientific theory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tific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Reference poi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place from which you measure, record or witness a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In our lab we used a referenc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tle 1"/>
          <p:cNvSpPr/>
          <p:nvPr/>
        </p:nvSpPr>
        <p:spPr>
          <a:xfrm>
            <a:off x="990720" y="30492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tific law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ubtitle 2"/>
          <p:cNvSpPr/>
          <p:nvPr/>
        </p:nvSpPr>
        <p:spPr>
          <a:xfrm>
            <a:off x="22860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a rule that a pattern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Scientist follow the scientific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tific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Reference poi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accelerat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any change in speed or direction of an object or the rat of velocity with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When a car goes ford it has accel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acceler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decelerat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a rate in decrease of veloc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Deceleration is the opposite of accel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deceler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frict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rubbing of one object or surface against  a moving object  or ano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Friction slows things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fri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7:56:36Z</dcterms:created>
  <dc:creator>poweruser</dc:creator>
  <dc:description/>
  <dc:language>en-US</dc:language>
  <cp:lastModifiedBy>BHISD</cp:lastModifiedBy>
  <dcterms:modified xsi:type="dcterms:W3CDTF">2011-12-02T14:35:38Z</dcterms:modified>
  <cp:revision>14</cp:revision>
  <dc:subject/>
  <dc:title>Term:  </dc:title>
</cp:coreProperties>
</file>